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AF4-92FF-44D7-AAFE-2F4B7104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8C5-8D96-4359-8C22-3A95EB16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695-1A5D-4A32-B1AD-D4B125AD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CC8-5A4E-474B-B8F3-497EC69B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0633-CB35-4954-8FE8-1198E382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16A6-D53C-43D3-9FDC-267EC1EA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46B1-4AA2-495A-AFC9-639F08B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31F7-B690-4950-ADBF-F7718D6E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8F80-0E95-4DC0-B2AD-6FB3EFDC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5969-E74A-48D2-89F5-28BA84A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AE73-E2E1-4F95-99CF-986523D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44E-2456-49FB-9A89-EA093B2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F57-194B-49C2-9F48-537F6D6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C22F-5BA7-44C4-BEBC-57CAEAC9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524C-FDF8-45D0-9867-4BD33406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4218-34CB-4C52-AED6-9C172397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3EC0-B53D-4AE5-A4B3-DE6835F5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AF2-EB22-445E-9A97-44F28053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D84-23AC-4763-8B02-6476D5D9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778-8BEE-4C47-9478-C6208B7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A9C-0766-4172-BDE3-F3A5B724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214-7AD6-4AB2-91E4-B9AC21C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79D-E89A-4071-9D50-70A8BF20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F05-9C4B-4F60-A056-B2626554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13E0-BD16-416A-87F3-B6CBF47F13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47E3-56C1-4F4C-904E-82AB1C8FEC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6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52e"/>
                </a:solidFill>
                <a:latin typeface="Verdana"/>
              </a:rPr>
              <a:t>Customer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2349360"/>
            <a:ext cx="561672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141720"/>
            <a:ext cx="93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630864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itive! Design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099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cad3218a_logo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108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76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52e"/>
                </a:solidFill>
                <a:latin typeface="Verdana"/>
              </a:rPr>
              <a:t>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413000"/>
            <a:ext cx="7921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son, Pa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Longford Ave Burwood NSW 2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Tele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2) 9670 1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Ser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06064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92428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71628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5084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5084640"/>
            <a:ext cx="7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630864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itive! Design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99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cad3218a_logo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762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6:18:25Z</dcterms:created>
  <dc:creator>Irwin</dc:creator>
  <dc:description/>
  <dc:language>en-US</dc:language>
  <cp:lastModifiedBy>OTEN</cp:lastModifiedBy>
  <dcterms:modified xsi:type="dcterms:W3CDTF">2005-04-05T05:16:0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85552954</vt:r8>
  </property>
  <property fmtid="{D5CDD505-2E9C-101B-9397-08002B2CF9AE}" pid="3" name="_AuthorEmail">
    <vt:lpwstr>nirwin@bigpond.com</vt:lpwstr>
  </property>
  <property fmtid="{D5CDD505-2E9C-101B-9397-08002B2CF9AE}" pid="4" name="_AuthorEmailDisplayName">
    <vt:lpwstr>Noelene</vt:lpwstr>
  </property>
  <property fmtid="{D5CDD505-2E9C-101B-9397-08002B2CF9AE}" pid="5" name="_EmailSubject">
    <vt:lpwstr>Create user doco skillset 2</vt:lpwstr>
  </property>
</Properties>
</file>